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09C-E4AD-4BCD-A33C-6090F573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0FA-5161-4393-845B-21490321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5CE-A85B-42E2-A240-F44FF70E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433-F52B-4B27-BF4A-CE8FC7C5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743-007A-4190-A215-1E5AEF8D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C12-E469-49BD-8A8E-5E9FCB98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E17-65AB-4FC4-B7D7-DC206D10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683-ED59-4EC6-8107-6696C047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B35-DB3F-493F-9177-F765FC11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7EC-2830-4F73-BE05-C2F5AB08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BAA-9C01-4723-B191-40A4675B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1881-3D0C-4ED5-B780-F8EC9FB6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F96D-D8DF-4FA1-B775-48E9ED43C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393372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3933720"/>
            <a:ext cx="28080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393372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270828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270828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148428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5373720"/>
            <a:ext cx="19432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hings you’ve lear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24720" y="2708280"/>
            <a:ext cx="12952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hings you need to 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981000"/>
            <a:ext cx="13687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7956720" y="5229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30836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148428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333360"/>
            <a:ext cx="4535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hast du heute gemacht / geler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9:08:00Z</dcterms:created>
  <dc:creator>Helena</dc:creator>
  <dc:description/>
  <dc:language>en-US</dc:language>
  <cp:lastModifiedBy>Helena</cp:lastModifiedBy>
  <dcterms:modified xsi:type="dcterms:W3CDTF">2010-11-03T19:08:16Z</dcterms:modified>
  <cp:revision>1</cp:revision>
  <dc:subject/>
  <dc:title>Slide 1</dc:title>
</cp:coreProperties>
</file>